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1133-AF21-4B5C-9996-3E171A2C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3F4-3153-4057-9C7E-6858CB27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E3A98-FF15-4881-83E5-6189E96A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56A9B-0A1D-44E5-9DC2-05FB79D3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EC3FA-48B5-4953-BB7D-2CD31FC0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F596A-2C65-4E8F-A681-25B701EF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AB00D-A944-4C3D-A376-66B63787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F634F-C8FC-49D2-851A-FD322AAF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C0D1C-4250-4E70-8829-B275E9D0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27C3A-C893-4899-A29A-B5BF9909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59931-87D3-486C-B4E0-06C6AA78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A623F-EFB2-4649-9244-9F7863D4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FB63-B490-44F7-B284-664E7B77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4057C-516F-4B5C-83E1-DD2E3D4E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4BF8A-3231-450D-8C15-322F6932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7E103-0B5E-459D-BA75-7A5B08F0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7F1F7-0C32-419B-BCBF-98710E81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51709-02DF-4DFD-B05C-D4F1EDC3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ECF2D-CEA9-44D3-9A57-F0FBF067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D6818-0E64-44CF-813E-A0047D37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4C502-6A63-4C98-87E0-FA1EB015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F3039-EB1A-4C2F-9904-6AA4E0AE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907F8-F8CA-4C37-923A-81483FE2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C628-279C-4A9A-81DC-50A06AAE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63325-FC4B-4FFB-BC9E-5809780A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7C375-6DD4-4DDD-A2EC-FDF252A1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0B405-61A6-4C17-9A72-A8A4C3EA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F355E-0884-483E-92F6-004D4204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0CC61-681A-4BD6-9558-4EC34953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ECF20-AAC5-408A-B4DD-902B46E4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6D43F-D543-466B-8E5A-2DF4DF0A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66072-6F55-4CCD-BDC0-28F4C0A6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9F09A-A931-45CB-B9FC-25CA1659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55516-5355-4438-BD85-46688B1C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A313-F9F7-421B-9455-B3BDBB43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9A185-475B-41A6-848C-57623C98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9B5CE-D5C2-49D9-8753-972E34C8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8B8F0-88EF-46C7-A2B7-FE7D478D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03460-B641-4AA9-8650-F435AA9D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A5542-8981-4F0E-8637-9A72578F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D2743-4FB3-4283-AC80-95C0DDB9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B9395-515C-4262-9B04-E8285861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78116-6F30-429D-AD26-5F59DE56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F6DAE-F573-4065-9DD4-2B19ADF3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123A0-D112-4938-A439-973F9AD9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8066-4D82-48E9-8D4C-485E6005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E2F62-3258-48CC-8431-A5A1F351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90753-DE9B-40A1-9402-A725693D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AE908-D6AE-4B5A-83DA-8399F54B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0FF99-6F25-42F3-B4BF-872BBD14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C8CCE-340D-4E3E-A4F9-7896BED5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DBD27-ED6C-414B-BDC0-B99567BC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C3E300-86BB-4590-8E57-EA341CDE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2924BE-9079-4810-83EE-C014AD7E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F86A8-8482-4620-8A48-CD8B5F08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B714B2-42BE-4A3D-85D4-9DA038AF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FF9F-F294-4A22-AD78-05393D31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5FE91-4F5C-48E9-A8EB-1F820A28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69EEE-6A58-43C5-A317-1F48F459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2CAE52-933A-45EF-AFDC-215A6C9D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AAA9C-EBE3-4BAF-BAE6-AB940D80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5AC76-6A3E-4B87-9003-22A0C06B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46753-FD83-47CB-A28E-9006B54D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31A0F-749F-49C7-915B-EC6F7546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75B361-6C62-4904-A188-27039791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58C3A9-ED0B-4A5F-89C1-2F1F24CC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82A81E-81FC-460E-95F1-96E39081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B2F2-38B6-4EBD-B47A-70B81E98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50304C-DF24-444F-AD87-20BFE289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2EBEBB-0A66-4610-B4C5-DF9D6A14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345F02-571F-4051-94E0-2314468D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D63C6A-EE13-4B2E-840B-1B0CE6B9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77254A-A755-4A37-91DD-1E5A6171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9D3B5-11C0-47B6-8AD3-52462721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37B64E-EC67-4B14-92EF-203C8E95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C49C86-D467-4383-B406-DC8E727E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C7EF1C-8C79-425D-8DF8-201FCE1B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4E624C-5324-4F57-8E0A-2337C396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F7E6-9CCF-437B-A8A9-AA88FF11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DE144-F977-40E4-A9ED-6B4F508A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B83DCE-D4B5-4744-9398-950F02C9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5EF339-9570-4DB1-8FC6-042CAF2E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4D8568-D29B-48C0-BE79-54B5647E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109049-B892-4BE9-AD71-837D3229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493B8C-732B-474B-9BB8-0386AFF3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4834FB-E407-4672-86E1-35E36C74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F3F0A5-A611-4D4C-B3E1-A387156A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58F271-D420-4100-A3B0-D0BD7F3A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3DB9C3-6417-40A2-94AB-F5D0DDA3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ECA0-25B5-4606-ACC9-32E8E489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4064D5-CA08-41C8-9EE7-79B6E149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7AC902-94C4-4B09-B57C-2C43C6D3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54129D-875C-4735-B846-14778821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529296-A223-4D36-8421-44B592C0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32251-AA24-498A-964C-9BE962E3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DF0299-6876-42FC-8124-7904187F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8A0D7-3C7C-4401-B2F2-35FBB076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268BFE-8EB3-41E4-81F4-A603CBD3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7ACEA8-6177-4427-BE17-0E36A54B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8B10E1-E4A2-45E7-97F8-F5BA1A0D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4343-EDE4-48CA-A9F3-3CCF73CC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652436-8186-44F0-8F75-F8C36978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87C4A5-1152-4F9F-A9AA-EF87F65A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FC0436-FFE2-4A28-82B9-7C5B32EB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B5F52D-5BF7-4E3B-968E-607E72DA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DEC897-BA12-4717-A195-A099B93D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BE2FDA-3CF5-47EE-9C30-D310ECFD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11DAD7-9D2C-49E5-AD10-96E26131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D45504-7433-46A9-98D0-DF0591BB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B2194D-E940-488B-9DB7-E4CCCCEC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0FA6D5-9AFD-4329-AC11-DEA6BE96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1018-638A-4BC1-B1C9-AD309375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F644-0855-481F-98CD-19EEC23D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772006-D8A4-49CF-AC60-CEF00B5E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CB7F5B-7E7E-473A-92DB-9D78E3D7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EAC4FA-7E78-40C8-B374-E8BBD1B3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1A773A-694C-4B8F-8C65-26009E62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D44846-51C9-4879-8176-ABE0EF60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4CDDF5-CB19-4A1D-AB25-848317D6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774014-6895-46E4-8EF7-4D4D97D4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3E09A8-0BCA-4F4D-8B39-38EB1AE6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A363FB-8266-450D-B2AD-A1A60425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52707B-8628-4A7E-BB55-9FF7EB74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9006-64DF-4523-A0EE-1635E742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7577A0-AC1A-4746-954F-58158654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1DA35E-9496-4145-BDDC-54DD6873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0F4DD4-4BD8-468A-87FD-B89A6C9E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D115F9-B885-4FC7-AE36-1B38BD0C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D1F333-E32F-475B-A9AB-BA47AECE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4EA41F-6F00-4D44-8EEF-E5262758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D67413-7EBB-4E83-86C9-44078236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A345C3-61C2-4F4A-B4FF-5F6A1816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070F2D-C847-4F9B-B122-A0A8C960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C64468-1570-445E-86E5-FAB2F7E5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B8FE-593D-4269-A3C1-24B2709D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740166-4329-42ED-9C9C-16DA69F9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DB5788-FAEF-415F-B809-29EE71DD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CF16EE-877D-40F0-867A-53203556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E7BD96-A8D9-4EB4-83CA-214B5707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3DD9B2-1ED9-4DC3-AE0A-3479830A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AD9B0F-DD43-42FF-9735-345A07DF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8A0C95-343E-4732-880F-69BF5B3E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839FA1-D5A2-41DE-BA24-B9984E46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9610A9-BF86-41E2-98D6-49A02973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97BFD2-E407-4BD6-8BAF-137AEEB1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0053-9580-4462-897A-909CEB25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FBC9A3-BF65-49C6-B674-693E5883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463443-C170-43B3-A37A-F573F6D9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AEAD5E-141F-4889-8708-62353DD9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0D3FE4-81CB-4FBC-9927-196C3EDE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37CFEE-BE0B-4F2E-842B-DBD82113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18A6F3-F220-4C21-8A0C-FE1E0C06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3124B4-97F8-4238-9546-851CA548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6FBFF6-0A4B-44F6-85B8-F45D1C9C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1960AF-8BFD-454B-94EB-3433C05E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F43859-6DF0-4F05-9AFB-A3A12ECD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06D6-8BDF-4462-9F49-B3EBE889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914D1A-2254-46AE-993D-9650186A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267CE8-291E-44F4-B0FB-99514F7A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072EB3-CEF0-4859-87D5-4E7B3829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5B8003-2879-4891-89F1-BCD27959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1F751B-2BA5-42FA-A57F-19A6472A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D8939C-9A9F-44D6-8CA5-329C3D2D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EE3FC2-C374-45BB-ABD4-D408B01D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CCDF96-3711-4DB6-B25C-68101AB0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25905B-2BA5-4E64-A552-EFD76F20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1C9593-164E-4D82-8296-129FFD99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9C0C4-9C6B-424F-BDC5-582FC59C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8B2CA9-1619-4FB3-9E2A-8C2BFDC4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445A69-BA9F-409D-931C-34BA87BC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65F5D2-6680-4912-8B26-B2E0640E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969F7-3337-459F-9CEE-B7C01C49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C929A-1705-4280-9702-9EDDE334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1F25C-3777-4430-8F4A-7453B779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A4660-93C0-4E06-AA30-003439D7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10BE-6899-475E-A923-A9172B4A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1E255-5E8D-4C57-B99E-0E5A53E0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094C9-B25C-443A-AEA7-47F5157F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5BA7F-51EF-49D9-8EC8-A325BE72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A2DE7-A9BF-498F-A5BB-22CFFB43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5829C-2872-4B46-8F7A-D790F70D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0BC8F-5121-4AE6-9F69-32BAFF14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56D23-C448-4DFC-A422-6B72D422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51CA9-1FC9-49B0-BCE6-3C437022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9ED83-C8A4-4C0F-A469-2F564055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05D6F-7031-4714-9616-5ED985C3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5EB-86C3-415B-882A-10E24761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EC5B5-F4E0-4CAA-A174-B686B0D9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E4F32-364B-43ED-889B-EE1A45EA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34ED5-4FBF-4EE8-B001-B2C11A74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58A4B-7A50-4CFF-A880-DAB22C70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D7105-B6D6-468D-8EEC-BD6411AB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CC4F8-A9C1-44BF-993E-BBA42D09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627C8-0075-4592-8C89-5ADB8417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EE0C0-846A-43EE-803E-3F8FD946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7D3FD-19BA-49D1-A389-F117C4AF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71F00-E5A1-43B7-AF40-432D850D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803-18C6-4716-957C-7B81AB8C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B4332-7471-4E39-95F2-756BBDCF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090EA-8414-49B1-9E2B-38CCCA42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EE2F8-717E-4B48-BA2D-E0011F25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6CD08-088C-4740-BF15-08469E23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CE961-5A9C-4A00-AE60-2250136C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3AD26-2A12-40CF-9511-928B508A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C1837-A69A-41C9-9B65-C3FC6574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3A7A2-5B19-4D7E-99D9-73C7FF66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39D00-1729-4720-9850-AE4CEB1E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C94FE-C8E3-4ED4-A462-F73A35CC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0C6-AA83-4162-B723-708DDEF8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499EB-BA00-49C3-BFC0-B240E8E1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43885-4687-47D3-A0BB-B41BF94E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D725A-5EDC-4787-98FE-3EEE107B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723B2-78CA-40AC-AF91-EC7D3068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D9F71-5064-4475-A452-58DCD2A7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7C3FB-24FD-4263-B678-1CAE202C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59911-AC05-4939-8756-0D3089BA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20387-062C-45B5-BC26-AA7FAF37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DF6D0-E76B-44A4-AB50-A94C4D93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91499-2BED-4D97-A6F1-10DB2AA1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9F01-E878-4668-A94B-4756C8D1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C8DF7-65DF-4F3B-9EE0-3538DD8E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31E72-0F5F-4E10-A4D6-3B0702AD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F1C5A-573B-4814-AE91-350BF14E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AB472-C847-4688-BC48-38EAE5D2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71DF2-BABA-4F46-9ED6-F076DA71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81710-7C80-40BB-80A5-41C5D1D7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658F6-D248-4285-BDDA-FD6DAD71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47ACD-B322-4AD0-AD22-F19D1177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4BEA3-E5D5-41FE-850F-01750F92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2C45D-01CD-4887-952F-C1ED8A83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84EF-9588-4539-B6B9-0EA82FEA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08A25-6D67-4540-A3CE-38ABA834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1B269-8281-4F24-8FAB-02B03EB2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7207D-EA16-415B-BF4D-9ED028F0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074C8-D1FC-4097-9D43-21418295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0B5AE-D0BB-4775-BF48-C79EF017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1074A-ABDD-4C9B-856B-2030218E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A1511-37F1-47F5-B25C-781E873A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368E1-D226-4A2E-AFDB-30DEA706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9018F-2A7D-4224-9DA3-A696B3E0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E7FAD-E256-4C37-A5F2-AD78D084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C45-F662-4F40-AB75-9E9E41CB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A74F6-AEB2-4B67-9552-081E56BE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75A1C-BB63-4E3C-A3FD-2228AB13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8C0D3-B71A-485B-A60C-EFA6136F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F044A-E1DD-4210-A403-F6C329E0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1C991-FCBA-4AD5-B887-B3CA4EEA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7BA26-1656-4231-8084-2C2A0A61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C9DE7-E909-49EB-9C2F-14011B5B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73AF1-4845-447A-B464-17EE2286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CDAAF-2682-4838-8E86-2B48B454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44906-EA07-4169-B3B3-40A644F1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14A7-9D5B-4D21-B3CD-819654CC4B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349A-8299-4FD4-84C7-BB12766ACA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0CB6-9DD4-4123-8F55-83BB5EFF52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6462-320E-4B4C-9B4E-9F5B181379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97A7-95BE-4ADD-86E3-C744B5FF0A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A939-204C-4A93-9948-CAD6DD0831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93B9-1B2A-4C0C-8C46-FFAFE7A20E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11A7-279F-41D9-BB53-A751C0AA24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CC26-F83F-4C29-895D-4ABA804276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5CA1-2B2D-4163-B8D5-27A4A202F0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154D-FC3C-4AA8-9E15-D4984B7166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56E3-57B5-4CE5-B8DC-12F514DD4E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914D-078B-4E33-8C24-B516F02712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290E-007B-4EC0-82CA-6122F72D4D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3879-7917-4F84-B710-7AB4CE8F9F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2FA6-1C6D-4A75-87F2-0F44B5C7FA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0A47-5D99-4B82-8206-3EFCA19E89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12D8-8C41-47B8-96AF-EB564AACDF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2399-B38A-47C4-A2E9-1BA6785698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8D78-DAFC-4A62-95B7-55C845ABE3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1E92-B75B-450A-A7B9-DAA4E94317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D26D-CCE2-4FDD-BE8F-4A186E43C8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3B96-4BCE-4DCB-A807-70F76E3DFB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4664-6B85-4FAC-9FFD-A8C162DEB5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3687-53DA-48D3-AA7A-A2A7859C74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5682-8F5B-4C78-AE85-DB102F2A28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BAAC-292C-4319-9CE2-2D316CB7CE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4843-0B8E-49D1-9813-6B68CAA2A0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B5B2-FB64-4A5A-AC42-18E6C9B3A9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AAF5-D9E8-49A0-9F22-3B30AB5B76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8978-61B0-4379-876F-D431A89197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7B69-1847-4388-B714-DAABC05EA1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C499-1561-4F05-8BE6-24AE209E14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81EE-7378-4C81-9A9E-6EDEE7C214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5A8D-169F-416E-A550-D529592052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0DB6-02ED-413E-B03A-D891EEF281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8FB0-592F-41BC-877A-5E302D7647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375D-6E5F-4930-99E9-DDD12BE767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B175-B0AB-4D93-B6CA-F5D65A09FE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00EC-E7BF-4B70-B7A6-9E30792C58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166920" y="3014640"/>
            <a:ext cx="28101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9633" descr=""/>
          <p:cNvPicPr/>
          <p:nvPr/>
        </p:nvPicPr>
        <p:blipFill>
          <a:blip r:embed="rId1"/>
          <a:stretch/>
        </p:blipFill>
        <p:spPr>
          <a:xfrm>
            <a:off x="795240" y="1028880"/>
            <a:ext cx="7553520" cy="48006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619308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1042920" y="1628640"/>
            <a:ext cx="4824360" cy="936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1042920" y="2637000"/>
            <a:ext cx="4824360" cy="936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971640" y="3645000"/>
            <a:ext cx="4824360" cy="5047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900000" y="4221000"/>
            <a:ext cx="4824360" cy="5050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826920" y="4797360"/>
            <a:ext cx="4824720" cy="5047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8"/>
          <a:stretch/>
        </p:blipFill>
        <p:spPr>
          <a:xfrm>
            <a:off x="684360" y="5329080"/>
            <a:ext cx="66243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68609" descr=""/>
          <p:cNvPicPr/>
          <p:nvPr/>
        </p:nvPicPr>
        <p:blipFill>
          <a:blip r:embed="rId1"/>
          <a:stretch/>
        </p:blipFill>
        <p:spPr>
          <a:xfrm>
            <a:off x="571680" y="1847880"/>
            <a:ext cx="8001000" cy="31622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"/>
          <a:stretch/>
        </p:blipFill>
        <p:spPr>
          <a:xfrm>
            <a:off x="611280" y="1787400"/>
            <a:ext cx="79214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1440" y="841320"/>
            <a:ext cx="8601120" cy="54673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227640" y="3860640"/>
            <a:ext cx="576360" cy="8636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124000" y="5445000"/>
            <a:ext cx="2016360" cy="8636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003640" y="5445000"/>
            <a:ext cx="28814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595440" y="773280"/>
            <a:ext cx="7953120" cy="58957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6084720" y="765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5651640" y="155736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1835280" y="335772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3995640" y="3357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1619280" y="5013360"/>
            <a:ext cx="129708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6227640" y="6093000"/>
            <a:ext cx="1297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752400" y="1766880"/>
            <a:ext cx="7639200" cy="33242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1042920" y="3745080"/>
            <a:ext cx="424980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1042920" y="4292640"/>
            <a:ext cx="4249800" cy="493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5580000" y="3471840"/>
            <a:ext cx="295272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5651640" y="4076640"/>
            <a:ext cx="2952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814320" y="1819440"/>
            <a:ext cx="7515360" cy="32191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826920" y="2997360"/>
            <a:ext cx="3384720" cy="9363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755640" y="4005360"/>
            <a:ext cx="3384720" cy="9363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5148360" y="2997360"/>
            <a:ext cx="3384360" cy="9363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5076720" y="4005360"/>
            <a:ext cx="33847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266760" y="800280"/>
            <a:ext cx="8610480" cy="52578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403280" y="3213000"/>
            <a:ext cx="6697800" cy="493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1332000" y="3789360"/>
            <a:ext cx="66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1332000" y="4292640"/>
            <a:ext cx="66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1332000" y="4869000"/>
            <a:ext cx="66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1332000" y="5445000"/>
            <a:ext cx="66974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5300" descr=""/>
          <p:cNvPicPr/>
          <p:nvPr/>
        </p:nvPicPr>
        <p:blipFill>
          <a:blip r:embed="rId1"/>
          <a:stretch/>
        </p:blipFill>
        <p:spPr>
          <a:xfrm>
            <a:off x="547560" y="1166760"/>
            <a:ext cx="8048880" cy="4524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1000080" y="3386160"/>
            <a:ext cx="489600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1042920" y="4005360"/>
            <a:ext cx="489600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1042920" y="4508640"/>
            <a:ext cx="489600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1042920" y="5084640"/>
            <a:ext cx="489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4276" descr=""/>
          <p:cNvPicPr/>
          <p:nvPr/>
        </p:nvPicPr>
        <p:blipFill>
          <a:blip r:embed="rId1"/>
          <a:stretch/>
        </p:blipFill>
        <p:spPr>
          <a:xfrm>
            <a:off x="361800" y="1038240"/>
            <a:ext cx="8420400" cy="478152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54277" descr=""/>
          <p:cNvPicPr/>
          <p:nvPr/>
        </p:nvPicPr>
        <p:blipFill>
          <a:blip r:embed="rId2"/>
          <a:stretch/>
        </p:blipFill>
        <p:spPr>
          <a:xfrm>
            <a:off x="2517840" y="1752480"/>
            <a:ext cx="4933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2231" descr=""/>
          <p:cNvPicPr/>
          <p:nvPr/>
        </p:nvPicPr>
        <p:blipFill>
          <a:blip r:embed="rId1"/>
          <a:stretch/>
        </p:blipFill>
        <p:spPr>
          <a:xfrm>
            <a:off x="247680" y="712800"/>
            <a:ext cx="864864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1:5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